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6342-B8DB-43A6-938D-9AAD1C02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50B4-AC8D-4FEB-8ED5-85D98474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27F4-1078-4E70-A5D0-AD15CB12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1012-A37C-4D75-B551-96532CE2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641E-FFB0-4DCF-BD2B-5013B4CC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1879-C8CE-4F86-AD58-46460037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D28-131E-4ADA-8D38-6FB09E6E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D8DE-06D7-4495-B52A-142F759F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762-2A5D-4E97-93C3-EEB33222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F3B-C003-4BED-BB97-CD0A1FA0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3EA8-20F5-47D3-84A1-26337DE6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2BFD-9A1E-445F-BB6E-B898361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764A-DF11-4161-B0C2-1FF98B13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4326-EE75-44E7-9CB3-786CC23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6BF2-0662-432E-83DD-482356AB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1509-F758-4381-953A-978B4637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269-8C1F-49A0-B1D8-6783A85D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89B7-6E17-4EC9-9F7B-F114207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3D56-49F9-4669-A81C-661869E5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9988-E179-4635-AC8A-A13A3E0D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541A-71A6-40E5-839C-35D0D2C4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96D5-DECD-44C4-9D58-C63689AB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568A-5B2D-4154-8066-DF674D8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3E09-163E-4F97-B4C9-CB2C84A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26B4-CDD5-47D8-9481-742ACFB659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AAAC-9DB5-45E0-8BD0-760EFC4F37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pletion Question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rip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200880" y="1878120"/>
            <a:ext cx="656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 Question1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m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 = InputBox("What is the capital of Pennsylvania?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Answer = "Harrisburg" Or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 = "harrisburg"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ight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ong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72080" y="5002200"/>
            <a:ext cx="94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If you are going to use more than one question, you must use different name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subroutines and variables nam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Ex. Sub Question2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Dim Answe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8:43:03Z</dcterms:created>
  <dc:creator>jnatale</dc:creator>
  <dc:description/>
  <dc:language>en-US</dc:language>
  <cp:lastModifiedBy>jnatale</cp:lastModifiedBy>
  <dcterms:modified xsi:type="dcterms:W3CDTF">2009-02-19T18:48:02Z</dcterms:modified>
  <cp:revision>1</cp:revision>
  <dc:subject/>
  <dc:title>Completion Questions</dc:title>
</cp:coreProperties>
</file>